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в делопроизвод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внешних особенностей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юридическая достоверность документа (наличие подписей, даты, печатей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езолюций, помет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передачи тек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материальной основы докумен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физического состояния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Документацию современных организаций (учреждений) можно разделить на группы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, отражающие основную деятельность организации (учреждения), а также ее структурных подраздел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, имеющие вспомогательное значение (сроки их хранения от нескольких месяцев до десяти лет и даже боле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 по личному составу (хранятся от нескольких лет до нескольких десятилетий, а некоторые и постоянн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главными функциями ЦЭЦ (ЭК) являются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ежегодного отбора документов для хра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годовых разделов описей дел постоянного хранения, описей дел временного хранения (свыше 10 лет), в том числе и по личному составу, актов о выделении к уничтожению документов и дел, не подлежащих дальнейшему хранен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актов о неисправимом повреждении документов постоянного хранения и актов, о не обнаружении дел, подлежащих передаче на государственное хра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вопросов о приеме на ведомственное хранение документов личного происхожд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готовка и внесение на рассмотрение ЭПК соответствующего архивного учреждения предложений об установлении и изменении сроков хранения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стие в подготовке и рассмотрении проектов нормативных документов и методических пособий по вопросам организации документов в делопроизводстве, экспертизе ценности документов и отбору их на государственное хранение (перечней документов с указанием сроков их хранения, номенклатуры дел, инструкций по делопроизводству и т.п.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перечней особо ценных дел, описей особо ценных дел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тодическое руководство и контроль за деятельностью ЭК структурных подразделений и ЭК подведомственных организац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и проведение совместно со службой делопроизводства и ведомственным архивом мероприятий по повышению квалификации членов ЭК структурных подраздел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653760"/>
            <a:ext cx="822960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ЭК (ЭК) проводят заседание в соответствии с планами работы, которые утверждаются руководителями организации. Заседание комиссии проводятся не реже двух раз в год. Решение ЦЭК (ЭК) принимаются большинством голосов, заседание протоколируется, протоколы подписывают председатель и секретарь комисс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околы утверждаются руководителем организации только после их рассмотрения и утверждения ЭПК архивного учреждения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околы ЦЭК (ЭК), содержащие реш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одобрении описей на дела постоянного хранения и по личному состав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одобрении проектов типовых и примерных номенклатур дел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зменении сроков хранения документов, установленных типовыми и ведомственными перечнями документов с указанием сроков их хранения, типовыми и примерными номенклатурам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установлении сроков хранения документов, не предусмотренных действующими типовыми и ведомственными перечнями документов с указанием сроков их хранения, а также типовыми и примерными номенклатурами д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 результате работы экспертной комиссии образуются четыре группы документов с различными сроками хранени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33316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оянного хранения в государственных архив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ного хранения в ведомственном архиве (свыше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ного хранения (до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лежащие уничтожению в связи с истечением срока хра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Сроки хранения устанавливаются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33316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-первых, по перечням документов с указанием сроков их хран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-вторых, экспертным путем ведущими специалис­тами организ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Что означает экспертиза ценности документов? Для чего она проводи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Председателем экспертной комиссии, как правило, назнач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секретарь руководи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один из заместителей руководителя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работник службы ДО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Где проводится экспертиза ценности докумен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Дайте определение – «ЦЭК (ЭК) организа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Основные функции ЦЭК (ЭК) организа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Что включает в себя обработка дел для хран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Назовите этапы экспертизы ценности докумен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Кого включают в состав экспертной коми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Что является объектами рассмотрения экспертной коми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F025-3611-49CA-840D-799C51C892B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CD13-AD61-4323-BF79-05F7FF343F8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06396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бор документов на государственное хранение или установление сроков их хранения на основе принятых критерие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Стрелка вниз 3"/>
          <p:cNvSpPr/>
          <p:nvPr/>
        </p:nvSpPr>
        <p:spPr>
          <a:xfrm>
            <a:off x="3805200" y="1749600"/>
            <a:ext cx="1789200" cy="10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осуществляется</a:t>
            </a: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66220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делопроизводстве организации (учреждения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ведомственном архив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государственном архив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Оценка документов в делопроизводстве организации (учреждения) проводится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составлении номенклатуры дел, когда определяется ценность будущего дела на основании перечн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егистрации поступающих в организацию (учреждение) документов (при проставлении на документе индекса определяется его принадлежность к конкретному делу, где и указан срок хранения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направлении документа в дело (исполнитель, подробно изучив вопрос, рассмотренный в документе, квалифицированно может определить принадлежность документ к какому- либо делу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роверке правильности отнесения документов к делам (дела должны быть просмотрены полистно, чтобы исключить возможные ошибк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одготовке дел к последующему хранению после завершения их делопроизводством (осуществляется в структурном подразделении организации (учреждении) лицом ответственным за делопроизводство и контролируется экспертной комиссией организации (учреждения) при сдаче на хранение в архи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 основе оценки ценности документов лежат следующие принципы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историзма (требуется рассматривать любое явление в процессе развития и делать анализ закономерностей развития тех или иных общественных явлений, отношен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всесторонности (при экспертизе необходимо изучить внутренние и внешние особенности документ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комплексной оценки документа (документ должны оцениваться в комплексе с другими документами, так как одни документы дополняются другими, третьи повторяют первые, а четвертые могут быть полностью поглощены вторы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истема критериев (система научно-обоснованных признаков) на основании которых определяется ценности документов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73492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исхож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держ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ие особенности доку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происхождения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48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оль и место организации (учреждения, лица) в системе государственного управления или конкретной отрасли, значимость выполняемых ею функц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ремя и место образования докумен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содержания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мость события (явления, предмета), отраженного в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яемость информации в других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ое назначение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 и разновидность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30:11Z</dcterms:modified>
  <cp:revision>136</cp:revision>
  <dc:subject/>
  <dc:title>Lecture Template </dc:title>
</cp:coreProperties>
</file>